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5.wmf" ContentType="image/x-wmf"/>
  <Override PartName="/ppt/media/image10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1.jpeg" ContentType="image/jpeg"/>
  <Override PartName="/ppt/media/image5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85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45D9-8ECA-4314-BFCB-1F9563796C42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B444-F375-4168-868B-43DBDAA83FE9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58B1-9FE4-46E5-9AED-76EA1028A5B8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B6E8-C21A-4960-97AF-2E8CA328D923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B6CB-9507-438B-9B15-0F89354B9803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CFFF-20BA-4308-ACD0-BA22B0DBA65F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EE95-E9F3-43BF-8168-2662FD8EB1A6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B466-DE27-4AE4-90B0-C7AB600487DB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96FB-2CD7-454B-A86E-F9C3C232D862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0335-F80D-461C-A8FC-E81D591E682A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1B97-3A3F-44E5-990D-94AFC7125B24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0B82-A959-4CDF-952E-3F9AA0B9589D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7DAD-C972-4D5B-A2E3-68BDCDA3918A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E4FF-66FC-447D-B22F-A76C2A408B4E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1CDB-E516-4FA2-A527-70A0E2B31720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25D3-657D-4AC8-AD1E-BD0B29A8659B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75BF-07C9-43DD-B0A7-6814411FD810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6B10-DCF8-4F88-8391-32BCEFC7DE78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7FD3-13FD-4DEB-8B6D-A6484EF91120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D0BC-5887-45CF-9379-2096D0A0F358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B950-2534-41A2-AEC2-7E75F0194AE3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30DA-2E35-4A16-94D7-4ADF1AC3230B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CC66-1141-4966-834F-BD1775C03C86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CF18-107F-4ACD-A76A-6E1CD6595CA9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AD48-0D07-4568-B157-B0B4572E9A60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E826-15E2-4C0C-9A28-D7C4D3C5CED6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0A31-45A9-411F-B79A-8B1B7079CA05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7164-777A-4481-BA8A-6A010397EEA5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202E-8B31-4858-B4BF-DF1C6E2CB3CE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1C37-518F-402A-8D74-DCBD28E10E8E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B05E-6FCF-4770-BBAF-C11F8A519524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5A3F-F5EE-43B6-AD41-6E80A52F5FB9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E892-BCA3-43CA-A1AE-98E13A16D037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9B5D-7C93-42AB-A3C4-E9B0462F70BF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1073-F9D0-47C4-A77E-D925232179D8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318E-5B7F-4AA0-9728-42741265AD0D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02F3-191E-4AF5-9827-52E949737A6B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EBED-6852-4332-9935-4376B76BFD77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E9BB-011A-405C-BD70-D517D0523CA3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4802-7CAF-44E3-937D-FAAD14BBEDC7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9448-A2B8-4B4F-9AC4-CD5B561CF1EB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3281-3ADD-4420-AF0C-7C04B776A976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6B6BA-EDC0-461E-9345-F99E6EC714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468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27ECB-7C6C-4343-B444-2BEEACD450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484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446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484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FDC3B-3916-401E-B839-A87960E063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908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348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4468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908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348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90B00-13B4-4D59-B602-B107E97D28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484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33160" y="303120"/>
            <a:ext cx="830556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9484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446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34367-4949-4BBC-ABD3-5C47239E01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484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9484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484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4468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468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484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46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9484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4908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5348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4468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4908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5348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D8EF9-73C9-4911-A9B6-F2F83504CB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484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338F8-9730-4CF7-A5C7-DF081243D8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2AE21-B44D-4817-80F3-1071E1106D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160" y="303120"/>
            <a:ext cx="830556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93164-E4DA-4B6A-8948-F49C7335A0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484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446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15DF7-BA84-46A5-AAA1-08695964A8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484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484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7B4DC-472C-42AC-B8EE-CDBC5E6586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484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4468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C071A-797B-4BA0-86F8-43B2ED39F0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85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70498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cc33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4E988AB5-D9EC-4F98-9717-355771337312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291960" indent="-291960"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53800">
              <a:spcBef>
                <a:spcPts val="700"/>
              </a:spcBef>
              <a:buClr>
                <a:srgbClr val="ef9c5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4080" indent="-215640">
              <a:spcBef>
                <a:spcPts val="700"/>
              </a:spcBef>
              <a:buClr>
                <a:srgbClr val="fddca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14480" indent="-228600">
              <a:spcBef>
                <a:spcPts val="700"/>
              </a:spcBef>
              <a:buClr>
                <a:srgbClr val="e35c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06360" indent="-1904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06360" indent="-1904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06360" indent="-1904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838080" y="639756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10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 rot="10800000">
            <a:off x="0" y="-1800"/>
            <a:ext cx="209520" cy="6856200"/>
          </a:xfrm>
          <a:prstGeom prst="rect">
            <a:avLst/>
          </a:prstGeom>
          <a:gradFill rotWithShape="0">
            <a:gsLst>
              <a:gs pos="0">
                <a:srgbClr val="19385f"/>
              </a:gs>
              <a:gs pos="100000">
                <a:srgbClr val="8cc6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0" y="73080"/>
            <a:ext cx="9144000" cy="79200"/>
            <a:chOff x="0" y="73080"/>
            <a:chExt cx="9144000" cy="79200"/>
          </a:xfrm>
        </p:grpSpPr>
        <p:sp>
          <p:nvSpPr>
            <p:cNvPr id="6" name="Line 8"/>
            <p:cNvSpPr/>
            <p:nvPr/>
          </p:nvSpPr>
          <p:spPr>
            <a:xfrm>
              <a:off x="0" y="73080"/>
              <a:ext cx="9144000" cy="1440"/>
            </a:xfrm>
            <a:prstGeom prst="line">
              <a:avLst/>
            </a:prstGeom>
            <a:ln w="38160">
              <a:solidFill>
                <a:srgbClr val="1938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0" y="150840"/>
              <a:ext cx="9144000" cy="1440"/>
            </a:xfrm>
            <a:prstGeom prst="line">
              <a:avLst/>
            </a:prstGeom>
            <a:ln w="38160">
              <a:solidFill>
                <a:srgbClr val="1938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2147760"/>
            <a:ext cx="9144000" cy="4800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cc6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6"/>
          <p:cNvSpPr/>
          <p:nvPr/>
        </p:nvSpPr>
        <p:spPr>
          <a:xfrm>
            <a:off x="0" y="6626160"/>
            <a:ext cx="9144000" cy="0"/>
          </a:xfrm>
          <a:prstGeom prst="line">
            <a:avLst/>
          </a:prstGeom>
          <a:ln w="19080">
            <a:solidFill>
              <a:srgbClr val="1938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Official_Pearson_Logo"/>
          <p:cNvPicPr/>
          <p:nvPr/>
        </p:nvPicPr>
        <p:blipFill>
          <a:blip r:embed="rId2"/>
          <a:stretch/>
        </p:blipFill>
        <p:spPr>
          <a:xfrm>
            <a:off x="609480" y="6095880"/>
            <a:ext cx="1143000" cy="430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smw3e_book_cover"/>
          <p:cNvPicPr/>
          <p:nvPr/>
        </p:nvPicPr>
        <p:blipFill>
          <a:blip r:embed="rId3"/>
          <a:stretch/>
        </p:blipFill>
        <p:spPr>
          <a:xfrm>
            <a:off x="6248520" y="2147760"/>
            <a:ext cx="1968480" cy="2594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85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291960" indent="-291960"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53800">
              <a:spcBef>
                <a:spcPts val="700"/>
              </a:spcBef>
              <a:buClr>
                <a:srgbClr val="ef9c5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4080" indent="-215640">
              <a:spcBef>
                <a:spcPts val="700"/>
              </a:spcBef>
              <a:buClr>
                <a:srgbClr val="fddca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14480" indent="-228600">
              <a:spcBef>
                <a:spcPts val="700"/>
              </a:spcBef>
              <a:buClr>
                <a:srgbClr val="e35c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06360" indent="-1904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06360" indent="-1904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06360" indent="-1904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2"/>
          </p:nvPr>
        </p:nvSpPr>
        <p:spPr>
          <a:xfrm>
            <a:off x="1752480" y="609588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0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8ec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smw3e_book_cover"/>
          <p:cNvPicPr/>
          <p:nvPr/>
        </p:nvPicPr>
        <p:blipFill>
          <a:blip r:embed="rId1"/>
          <a:stretch/>
        </p:blipFill>
        <p:spPr>
          <a:xfrm>
            <a:off x="1973160" y="0"/>
            <a:ext cx="519768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C98A5AC0-D46D-41C2-B7C2-3755843B5888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5f"/>
                </a:solidFill>
                <a:latin typeface="Arial"/>
              </a:rPr>
              <a:t>The Population and the Sample (cont.)</a:t>
            </a:r>
            <a:endParaRPr b="0" lang="en-US" sz="32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rite the idealized line with Greek letters and consider the coefficients to be </a:t>
            </a:r>
            <a:r>
              <a:rPr b="0" i="1" lang="en-US" sz="2800" spc="-1" strike="noStrike">
                <a:solidFill>
                  <a:srgbClr val="e35c01"/>
                </a:solidFill>
                <a:latin typeface="Arial"/>
              </a:rPr>
              <a:t>parameter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intercept and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slo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sponding to our fitted line of               , we w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not all the individua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 are at these means—some lie above the line and some below. Like all models, there are </a:t>
            </a:r>
            <a:r>
              <a:rPr b="0" lang="en-US" sz="2800" spc="-1" strike="noStrike">
                <a:solidFill>
                  <a:srgbClr val="e35c01"/>
                </a:solidFill>
                <a:latin typeface="Arial"/>
              </a:rPr>
              <a:t>err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343560" y="3371760"/>
          <a:ext cx="1333440" cy="4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43560" y="3371760"/>
                    <a:ext cx="13334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3276720" y="3790800"/>
          <a:ext cx="2514600" cy="65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790800"/>
                    <a:ext cx="251460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891FB06B-3133-4B97-AACF-9B9A9340DD6C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5f"/>
                </a:solidFill>
                <a:latin typeface="Arial"/>
              </a:rPr>
              <a:t>The Population and the Sample (cont.)</a:t>
            </a:r>
            <a:endParaRPr b="0" lang="en-US" sz="32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44680" y="1219320"/>
            <a:ext cx="8294400" cy="50292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ote the errors by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se errors are random, of course, and can be positive or nega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e add error to the model, we can talk about individua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 instead of mea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equation is now true for each data point (since there is a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soak up the deviation) and gives a valu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eac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895480" y="3809880"/>
          <a:ext cx="3124440" cy="6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809880"/>
                    <a:ext cx="312444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1B1663D6-051B-4E9D-A437-5CE430EBC84B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85f"/>
                </a:solidFill>
                <a:latin typeface="Arial"/>
              </a:rPr>
              <a:t>Assumptions and Conditions</a:t>
            </a: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hapter 8 when we fit lines to data, we needed to check only the Straight Enough Condi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when we want to make inferences about the coefficients of the line, we’ll have to make more assumptions (and thus check more condition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be careful about the order in which we check conditions. If an initial assumption is not true, it makes no sense to check the later on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EA558753-F3B8-4151-807E-0823FB813909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5f"/>
                </a:solidFill>
                <a:latin typeface="Arial"/>
              </a:rPr>
              <a:t>Assumptions and Conditions (cont.)</a:t>
            </a:r>
            <a:endParaRPr b="0" lang="en-US" sz="32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Arial"/>
              </a:rPr>
              <a:t>Linearity Assump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66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5c01"/>
                </a:solidFill>
                <a:latin typeface="Arial"/>
              </a:rPr>
              <a:t>Straight Enough Condi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eck the scatterplot—the shape must be linear or we can’t use regression at 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27-04aa"/>
          <p:cNvPicPr/>
          <p:nvPr/>
        </p:nvPicPr>
        <p:blipFill>
          <a:blip r:embed="rId1"/>
          <a:stretch/>
        </p:blipFill>
        <p:spPr>
          <a:xfrm>
            <a:off x="2538360" y="3695760"/>
            <a:ext cx="4091040" cy="286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9FD5E47F-7C0A-4ECA-AE98-9C34D2F22374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5f"/>
                </a:solidFill>
                <a:latin typeface="Arial"/>
              </a:rPr>
              <a:t>Assumptions and Conditions (cont.)</a:t>
            </a:r>
            <a:endParaRPr b="0" lang="en-US" sz="32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Arial"/>
              </a:rPr>
              <a:t>Linearity Assump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66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scatterplot is straight enough, we can go on to some assumptions about the errors. If not, stop here, or consider re-expressing the data to make the scatterplot more nearly lin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66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ative Data Cond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The data must be quantitative for this to make sen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65D5C5C7-B72B-4814-93F1-8C26AE4B8446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5f"/>
                </a:solidFill>
                <a:latin typeface="Arial"/>
              </a:rPr>
              <a:t>Assumptions and Conditions (cont.)</a:t>
            </a:r>
            <a:endParaRPr b="0" lang="en-US" sz="32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SzPct val="6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Arial"/>
              </a:rPr>
              <a:t>Independence Assump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66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5c01"/>
                </a:solidFill>
                <a:latin typeface="Arial"/>
              </a:rPr>
              <a:t>Randomization Condition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individuals are a representative sample from the pop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66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the residual plot (part 1)—the residuals should appear to be randomly scatte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27_04"/>
          <p:cNvPicPr/>
          <p:nvPr/>
        </p:nvPicPr>
        <p:blipFill>
          <a:blip r:embed="rId1"/>
          <a:stretch/>
        </p:blipFill>
        <p:spPr>
          <a:xfrm>
            <a:off x="3352680" y="4038480"/>
            <a:ext cx="3124440" cy="26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1A2A3DB6-EE4F-4FFA-88D5-3D231F3B5120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5f"/>
                </a:solidFill>
                <a:latin typeface="Arial"/>
              </a:rPr>
              <a:t>Assumptions and Conditions (cont.)</a:t>
            </a:r>
            <a:endParaRPr b="0" lang="en-US" sz="32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SzPct val="6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Arial"/>
              </a:rPr>
              <a:t>Equal Variance Assump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5c01"/>
                </a:solidFill>
                <a:latin typeface="Arial"/>
              </a:rPr>
              <a:t>Does The Plot Thicken? Condi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eck the residual plot (part 2)—the spread of the residuals should be uni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27_05"/>
          <p:cNvPicPr/>
          <p:nvPr/>
        </p:nvPicPr>
        <p:blipFill>
          <a:blip r:embed="rId1"/>
          <a:stretch/>
        </p:blipFill>
        <p:spPr>
          <a:xfrm>
            <a:off x="2666880" y="3621240"/>
            <a:ext cx="3733920" cy="293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6E69C2C1-4329-4FE8-B434-CCDE1ED90E5D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5f"/>
                </a:solidFill>
                <a:latin typeface="Arial"/>
              </a:rPr>
              <a:t>Assumptions and Conditions (cont.)</a:t>
            </a:r>
            <a:endParaRPr b="0" lang="en-US" sz="3200" spc="-1" strike="noStrike">
              <a:solidFill>
                <a:srgbClr val="19385f"/>
              </a:solidFill>
              <a:latin typeface="Arial"/>
            </a:endParaRPr>
          </a:p>
        </p:txBody>
      </p:sp>
      <p:pic>
        <p:nvPicPr>
          <p:cNvPr id="154" name="Picture 4" descr="27_06"/>
          <p:cNvPicPr/>
          <p:nvPr/>
        </p:nvPicPr>
        <p:blipFill>
          <a:blip r:embed="rId1"/>
          <a:stretch/>
        </p:blipFill>
        <p:spPr>
          <a:xfrm>
            <a:off x="2819520" y="3962520"/>
            <a:ext cx="3581280" cy="26812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SzPct val="6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Arial"/>
              </a:rPr>
              <a:t>Normal Population Assump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66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arly Normal Condi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eck a histogram of the residuals. The distribution of the residuals should be unimodal and symmetr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66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5c01"/>
                </a:solidFill>
                <a:latin typeface="Arial"/>
              </a:rPr>
              <a:t>Outlier Condi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Check for outli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FC9F487F-731F-43E3-9218-FE629FE20D5E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160" y="302760"/>
            <a:ext cx="8305560" cy="76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5f"/>
                </a:solidFill>
                <a:latin typeface="Arial"/>
              </a:rPr>
              <a:t>Assumptions and Conditions (cont.)</a:t>
            </a:r>
            <a:endParaRPr b="0" lang="en-US" sz="32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94400" cy="49528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ll four assumptions are true, the idealized regression model would look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valu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re is a distribu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alues that follows a Normal model, and each of these Normal models is centered on the line and has the same standard dev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27_07"/>
          <p:cNvPicPr/>
          <p:nvPr/>
        </p:nvPicPr>
        <p:blipFill>
          <a:blip r:embed="rId1"/>
          <a:stretch/>
        </p:blipFill>
        <p:spPr>
          <a:xfrm>
            <a:off x="2133720" y="2514600"/>
            <a:ext cx="4647960" cy="208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552A9AEE-1FDA-4C54-9861-672AE32F9550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5f"/>
                </a:solidFill>
                <a:latin typeface="Arial"/>
              </a:rPr>
              <a:t>Which Come First: </a:t>
            </a:r>
            <a:br>
              <a:rPr sz="3200"/>
            </a:br>
            <a:r>
              <a:rPr b="0" lang="en-US" sz="3200" spc="-1" strike="noStrike">
                <a:solidFill>
                  <a:srgbClr val="19385f"/>
                </a:solidFill>
                <a:latin typeface="Arial"/>
              </a:rPr>
              <a:t>the Conditions or the Residuals?</a:t>
            </a:r>
            <a:endParaRPr b="0" lang="en-US" sz="32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’s a catch in regression—the best way to check many of the conditions is with the residuals, but we get the residuals onl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e compute the regression mod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pute the regression model, however, we should check the 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we work in this or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f9c5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scatterplot of the data to check the Straight Enough Condition. (If the relationship isn’t straight, try re-expressing the data. Or stop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1752480" y="609588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0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685440"/>
            <a:ext cx="739116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19385f"/>
                </a:solidFill>
                <a:latin typeface="Arial"/>
              </a:rPr>
              <a:t>Chapter 27</a:t>
            </a:r>
            <a:endParaRPr b="0" lang="en-US" sz="6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90720" y="2437920"/>
            <a:ext cx="4572000" cy="22100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5c01"/>
                </a:solidFill>
                <a:latin typeface="Arial"/>
              </a:rPr>
              <a:t>Inferences for Regress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A60AAEBC-4C98-4532-8907-EC7243C62D4F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514600" y="2416320"/>
          <a:ext cx="295200" cy="46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416320"/>
                    <a:ext cx="29520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2000"/>
          </a:bodyPr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ef9c5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data are straight enough, fit a regression model and find the residuals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predicted values,  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ef9c5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scatterplot of the residuals again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the predicted valu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700"/>
              </a:spcBef>
              <a:buClr>
                <a:srgbClr val="fddca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lot should have no pattern. Check in particular for any bend, any thickening (or thinning), or any outli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ef9c5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data are measured over time, plot the residuals against time to check for evidence of patterns that might suggest they are not indepen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5f"/>
                </a:solidFill>
                <a:latin typeface="Arial"/>
              </a:rPr>
              <a:t>Which Come First: </a:t>
            </a:r>
            <a:br>
              <a:rPr sz="3200"/>
            </a:br>
            <a:r>
              <a:rPr b="0" lang="en-US" sz="3200" spc="-1" strike="noStrike">
                <a:solidFill>
                  <a:srgbClr val="19385f"/>
                </a:solidFill>
                <a:latin typeface="Arial"/>
              </a:rPr>
              <a:t>the Conditions or the Residuals? (cont.)</a:t>
            </a:r>
            <a:endParaRPr b="0" lang="en-US" sz="3200" spc="-1" strike="noStrike">
              <a:solidFill>
                <a:srgbClr val="19385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65A6065C-962A-4C25-BAC5-BDE97245D725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5f"/>
                </a:solidFill>
                <a:latin typeface="Arial"/>
              </a:rPr>
              <a:t>Which Come First: </a:t>
            </a:r>
            <a:br>
              <a:rPr sz="3200"/>
            </a:br>
            <a:r>
              <a:rPr b="0" lang="en-US" sz="3200" spc="-1" strike="noStrike">
                <a:solidFill>
                  <a:srgbClr val="19385f"/>
                </a:solidFill>
                <a:latin typeface="Arial"/>
              </a:rPr>
              <a:t>the Conditions or the Residuals? (cont.)</a:t>
            </a:r>
            <a:endParaRPr b="0" lang="en-US" sz="32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ef9c5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scatterplots look OK, then make a histogram and Normal probability plot of the residuals to check the Nearly Normal Cond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f9c5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ll the conditions seem to be satisfied, go ahead with in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A75C7EC0-E2C9-4D75-A69E-5E7E4AD44E46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85f"/>
                </a:solidFill>
                <a:latin typeface="Arial"/>
              </a:rPr>
              <a:t>Intuition About Regression Inference</a:t>
            </a: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expect any sample to produce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ose expected value is the true slope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its standard devi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spects of the data affect how much the slope and intercept vary from sample to samp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2CC962AA-AB0F-4A95-A4BF-69BDA1FF6706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5f"/>
                </a:solidFill>
                <a:latin typeface="Arial"/>
              </a:rPr>
              <a:t>Intuition About Regression Inference (cont.)</a:t>
            </a:r>
            <a:endParaRPr b="0" lang="en-US" sz="32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Spread around the lin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scatter around the line means the slope will be more consistent from sample to samp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pread around the line is measured with the residual standard devi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always fi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regression output, often just labe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036EFA4A-E6E8-4F45-9AD6-B1BCBC28A313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5f"/>
                </a:solidFill>
                <a:latin typeface="Arial"/>
              </a:rPr>
              <a:t>Intuition About Regression Inference (cont.)</a:t>
            </a:r>
            <a:endParaRPr b="0" lang="en-US" sz="32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Spread around the lin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27-08a"/>
          <p:cNvPicPr/>
          <p:nvPr/>
        </p:nvPicPr>
        <p:blipFill>
          <a:blip r:embed="rId1"/>
          <a:stretch/>
        </p:blipFill>
        <p:spPr>
          <a:xfrm>
            <a:off x="380880" y="2743200"/>
            <a:ext cx="8382240" cy="28368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5"/>
          <p:cNvSpPr/>
          <p:nvPr/>
        </p:nvSpPr>
        <p:spPr>
          <a:xfrm>
            <a:off x="673200" y="5626080"/>
            <a:ext cx="79182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scatter around the line means the slope will be more consistent from sample to sam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D42611FB-81F9-4347-B1AB-7D5D6D402450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5f"/>
                </a:solidFill>
                <a:latin typeface="Arial"/>
              </a:rPr>
              <a:t>Intuition About Regression Inference (cont.)</a:t>
            </a:r>
            <a:endParaRPr b="0" lang="en-US" sz="32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Arial"/>
              </a:rPr>
              <a:t>Spread of the </a:t>
            </a:r>
            <a:r>
              <a:rPr b="0" i="1" lang="en-US" sz="2800" spc="-1" strike="noStrike">
                <a:solidFill>
                  <a:srgbClr val="6666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6666ff"/>
                </a:solidFill>
                <a:latin typeface="Arial"/>
              </a:rPr>
              <a:t>’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large standard devia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ides a more stable reg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27-09a"/>
          <p:cNvPicPr/>
          <p:nvPr/>
        </p:nvPicPr>
        <p:blipFill>
          <a:blip r:embed="rId1"/>
          <a:stretch/>
        </p:blipFill>
        <p:spPr>
          <a:xfrm>
            <a:off x="457200" y="3124080"/>
            <a:ext cx="8381880" cy="26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32546AB4-D59E-433A-B11A-077A9AB4179F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27-10a"/>
          <p:cNvPicPr/>
          <p:nvPr/>
        </p:nvPicPr>
        <p:blipFill>
          <a:blip r:embed="rId1"/>
          <a:stretch/>
        </p:blipFill>
        <p:spPr>
          <a:xfrm>
            <a:off x="457200" y="3048120"/>
            <a:ext cx="8229600" cy="26413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5f"/>
                </a:solidFill>
                <a:latin typeface="Arial"/>
              </a:rPr>
              <a:t>Intuition About Regression Inference (cont.)</a:t>
            </a:r>
            <a:endParaRPr b="0" lang="en-US" sz="32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Arial"/>
              </a:rPr>
              <a:t>Sample siz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ving a larger sample siz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gives more consistent estim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DA78D7F0-D08D-4E9E-B2CF-81521E7B2E31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85f"/>
                </a:solidFill>
                <a:latin typeface="Arial"/>
              </a:rPr>
              <a:t>Standard Error for the Slope</a:t>
            </a: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aspects of the scatterplot affect the standard error of the regression slop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f9c5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ead around the lin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f9c5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ead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lues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f9c5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siz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rmula for the standard error (which you will probably never have to calculate by hand) i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971800" y="4896000"/>
          <a:ext cx="3352680" cy="12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4896000"/>
                    <a:ext cx="3352680" cy="12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997526AD-6202-4F81-A81D-42C0F9356E50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5f"/>
                </a:solidFill>
                <a:latin typeface="Arial"/>
              </a:rPr>
              <a:t>Sampling Distribution for Regression Slopes</a:t>
            </a:r>
            <a:endParaRPr b="0" lang="en-US" sz="32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conditions are met, the standardized estimated regression sl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s a Student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model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 degrees of freed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3581280" y="2514600"/>
          <a:ext cx="2286000" cy="14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2514600"/>
                    <a:ext cx="2286000" cy="14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61672E46-FA27-4C16-BAAF-FBCFCFF5DCAE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9385f"/>
                </a:solidFill>
                <a:latin typeface="Arial"/>
              </a:rPr>
              <a:t>Sampling Distribution for Regression Slopes (cont.)</a:t>
            </a:r>
            <a:endParaRPr b="0" lang="en-US" sz="30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44680" y="1599840"/>
            <a:ext cx="8294400" cy="487692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estimate the standard error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f9c5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ef9c5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number of data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f9c5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ordinary standard deviation of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al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276720" y="2038320"/>
          <a:ext cx="2590560" cy="9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038320"/>
                    <a:ext cx="2590560" cy="9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1523880" y="3495600"/>
          <a:ext cx="2057400" cy="92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3495600"/>
                    <a:ext cx="205740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5C96C4A6-20FC-4E28-812B-1738610F78D8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85f"/>
                </a:solidFill>
                <a:latin typeface="Arial"/>
              </a:rPr>
              <a:t>An Example: Body Fat and Waist Size</a:t>
            </a: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44680" y="135576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chapter example revolves around the relationship betwe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% body f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aist siz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in inches). Here is a scatterplot of our data s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27-01a"/>
          <p:cNvPicPr/>
          <p:nvPr/>
        </p:nvPicPr>
        <p:blipFill>
          <a:blip r:embed="rId1"/>
          <a:stretch/>
        </p:blipFill>
        <p:spPr>
          <a:xfrm>
            <a:off x="1905120" y="2643120"/>
            <a:ext cx="5257800" cy="36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24BF9FB9-FB04-4159-A268-2EDA614B0F51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85f"/>
                </a:solidFill>
                <a:latin typeface="Arial"/>
              </a:rPr>
              <a:t>What About the Intercept?</a:t>
            </a: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reasoning applies for the intercep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w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e rarely use this fact for anyth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cept usually isn’t interesting. Most hypothesis tests and confidence intervals for regression are about the slo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244680" y="2438280"/>
          <a:ext cx="1936800" cy="10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4680" y="2438280"/>
                    <a:ext cx="1936800" cy="10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DB927E0B-EB37-447A-9769-7CFAFF76D25D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85f"/>
                </a:solidFill>
                <a:latin typeface="Arial"/>
              </a:rPr>
              <a:t>Regression Inference</a:t>
            </a: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49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null hypothesis of a zero slope questions the entire claim of a linear relationship between the two variables—often just what we want to know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test 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0, we find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continue as we would with any other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te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ormula for a confidence interval for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048120" y="5364000"/>
          <a:ext cx="312408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5364000"/>
                    <a:ext cx="31240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3352680" y="3311640"/>
          <a:ext cx="1828800" cy="109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3311640"/>
                    <a:ext cx="182880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0A202883-3DBA-444D-9E21-13144E4F8137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85f"/>
                </a:solidFill>
                <a:latin typeface="Arial"/>
              </a:rPr>
              <a:t>*Standard Errors for Predicted Values</a:t>
            </a: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we have a useful regression, how can we indulge our natural desire to predict, without being irresponsi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we have standard errors—we can use those to construct a confidence interval for the predictions, smudging the results in the right way to report our uncertainty hones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A185066D-FE13-49DE-AC05-F29B7B41CA95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5f"/>
                </a:solidFill>
                <a:latin typeface="Arial"/>
              </a:rPr>
              <a:t>*Standard Errors for Predicted Values (cont.)</a:t>
            </a:r>
            <a:endParaRPr b="0" lang="en-US" sz="32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44680" y="1371240"/>
            <a:ext cx="8294400" cy="533412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ou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%body f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a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ze example, there are two questions we could as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f9c5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we want to know the me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%body f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n wit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a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ze of, say, 38 inch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f9c5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we want to estimate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%body f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a particular man with a 38-inc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a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dict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%body f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same in both questions, but we can predict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an %body f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n who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ai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is 38 inches with a lot more precision than we can predict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%body fa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particular individ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o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a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ze happens to be 38 inc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F3774728-1CDE-46B7-9BDE-416E4A31716F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5f"/>
                </a:solidFill>
                <a:latin typeface="Arial"/>
              </a:rPr>
              <a:t>*Standard Errors for Predicted Values (cont.)</a:t>
            </a:r>
            <a:endParaRPr b="0" lang="en-US" sz="32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tart with the same prediction in both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f9c5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re predicting for a new individual, one that was not in the original data s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f9c5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 h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alu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l-GR" sz="2800" spc="-1" strike="noStrike" baseline="-25000">
                <a:solidFill>
                  <a:srgbClr val="000000"/>
                </a:solidFill>
                <a:latin typeface="Arial"/>
              </a:rPr>
              <a:t>ν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8 inch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f9c5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gression predict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%body f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819520" y="4038480"/>
          <a:ext cx="3124080" cy="8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4038480"/>
                    <a:ext cx="3124080" cy="8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0DDB8E53-920D-4B7E-86C0-83374166114C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5f"/>
                </a:solidFill>
                <a:latin typeface="Arial"/>
              </a:rPr>
              <a:t>*Standard Errors for Predicted Values (cont.)</a:t>
            </a:r>
            <a:endParaRPr b="0" lang="en-US" sz="32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intervals take the fo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 will be different for the two questions we have po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3124080" y="2133720"/>
          <a:ext cx="2590920" cy="74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133720"/>
                    <a:ext cx="259092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5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83601DD8-9AF0-404B-8E92-80BCD1DE4D25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5f"/>
                </a:solidFill>
                <a:latin typeface="Arial"/>
              </a:rPr>
              <a:t>*Standard Errors for Predicted Values (cont.)</a:t>
            </a:r>
            <a:endParaRPr b="0" lang="en-US" sz="32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44320" y="1600200"/>
            <a:ext cx="80658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andard error of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edicted value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s vary more than means, so the standard error for a single predicted value is larger than the standard error for the me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284120" y="5118120"/>
                <a:ext cx="701676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284120" y="2286000"/>
                <a:ext cx="622476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2E4893C3-DB6D-4916-B01B-8C9F19258A64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5f"/>
                </a:solidFill>
                <a:latin typeface="Arial"/>
              </a:rPr>
              <a:t>*Standard Errors for Predicted Values (cont.)</a:t>
            </a:r>
            <a:endParaRPr b="0" lang="en-US" sz="32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291960" indent="-291960"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in mind the distinction between the two kinds of confidence interv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53800">
              <a:spcBef>
                <a:spcPts val="700"/>
              </a:spcBef>
              <a:buClr>
                <a:srgbClr val="ef9c5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arrower interval is a </a:t>
            </a:r>
            <a:r>
              <a:rPr b="1" lang="en-US" sz="2800" spc="-1" strike="noStrike">
                <a:solidFill>
                  <a:srgbClr val="e35c01"/>
                </a:solidFill>
                <a:latin typeface="Arial"/>
              </a:rPr>
              <a:t>confidence interval for the predicted mean val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l-GR" sz="2800" spc="-1" strike="noStrike" baseline="-25000">
                <a:solidFill>
                  <a:srgbClr val="000000"/>
                </a:solidFill>
                <a:latin typeface="Arial"/>
              </a:rPr>
              <a:t>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53800">
              <a:spcBef>
                <a:spcPts val="700"/>
              </a:spcBef>
              <a:buClr>
                <a:srgbClr val="ef9c5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ider interval is a </a:t>
            </a:r>
            <a:r>
              <a:rPr b="1" lang="en-US" sz="2800" spc="-1" strike="noStrike">
                <a:solidFill>
                  <a:srgbClr val="e35c01"/>
                </a:solidFill>
                <a:latin typeface="Arial"/>
              </a:rPr>
              <a:t>prediction interval for an individ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that x-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4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4A72156A-29D7-4EB7-B0B1-95681D6D5C91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5f"/>
                </a:solidFill>
                <a:latin typeface="Arial"/>
              </a:rPr>
              <a:t>*Confidence Intervals for Predicted Values</a:t>
            </a:r>
            <a:endParaRPr b="0" lang="en-US" sz="32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4680" y="1447920"/>
            <a:ext cx="387504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re’s a look at the difference between predicting for a mean and predicting for an individu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olid green lines near the regression line show the 95% confidence interval for the mean predicted value, and the dashed red lines show the prediction intervals for individua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27-12a"/>
          <p:cNvPicPr/>
          <p:nvPr/>
        </p:nvPicPr>
        <p:blipFill>
          <a:blip r:embed="rId1"/>
          <a:stretch/>
        </p:blipFill>
        <p:spPr>
          <a:xfrm>
            <a:off x="4572000" y="2057400"/>
            <a:ext cx="4224240" cy="33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416DACF4-B11C-435D-BBE6-2C827A94DD92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85f"/>
                </a:solidFill>
                <a:latin typeface="Arial"/>
              </a:rPr>
              <a:t>What Can Go Wrong?</a:t>
            </a: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fit a linear regression to data that aren’t stra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out for the plot thicke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ef9c5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spread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ur predictions will be very good for s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alues and very bad for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the errors are Nor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ef9c5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the histogram and Normal probability plot of the residuals to see if this assumption looks reason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2AC83733-7F36-423F-A1BD-BCD6FE8E6821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85f"/>
                </a:solidFill>
                <a:latin typeface="Arial"/>
              </a:rPr>
              <a:t>Remembering Regression</a:t>
            </a: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regression, we want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relationship between two quantitative variables, one the predictor and the other the respon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o that, we imagine an idealized regression line, which assumes that the means of the distributions of the response variable fall along the line even though individual values are scattered around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952A67EE-A087-4A9D-93D7-CC05B6DB0A76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160" y="302760"/>
            <a:ext cx="8305560" cy="76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85f"/>
                </a:solidFill>
                <a:latin typeface="Arial"/>
              </a:rPr>
              <a:t>What Can Go Wrong? (cont.)</a:t>
            </a: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44680" y="1218960"/>
            <a:ext cx="8294400" cy="51814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out for extrapo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f9c5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always dangerous to predict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alues that lie far from the center of the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out for high-influence points and outli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out for one-tailed te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f9c5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s of hypotheses about regression coefficients are usually two-tailed, so software packages report two-tailed P-val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f9c5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are using software to conduct a one-tailed test about slope, you’ll need to divide the reported P-value in hal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F130D305-820B-4802-91D3-CC15A8CE8F1F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85f"/>
                </a:solidFill>
                <a:latin typeface="Arial"/>
              </a:rPr>
              <a:t>What have we learned?</a:t>
            </a: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now applied inference to regression mod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ve learn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 certain assumptions, the sampling distribution for the slope of a regression line can be modeled by a Student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model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 degrees of freed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heck four conditions, in order, to verify the assumptions. Most checks can be made by graphing the data and residu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4930AB64-03A3-4503-B613-D7627C32529F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85f"/>
                </a:solidFill>
                <a:latin typeface="Arial"/>
              </a:rPr>
              <a:t>What have we learned?</a:t>
            </a: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use the appropri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model to test a hypothesis about the slope. If the slope of the regression line is significantly different from 0, we have strong evidence that there is an association between the two vari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reate and interpret a confidence interval or the true slo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been reminded yet again never to mistake the presence of an association for proof of caus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4EA1F330-E131-4FC1-B9FA-988E9C0B88CB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85f"/>
                </a:solidFill>
                <a:latin typeface="Arial"/>
              </a:rPr>
              <a:t>Remembering Regression (cont.)</a:t>
            </a: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we’d like to know what the regression model can tell us beyond the individuals in the stu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ant to make confidence intervals and test hypotheses about the slope and intercept of the regression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F1A1D25B-5AB9-47D0-8C74-ACE59B84E4C0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85f"/>
                </a:solidFill>
                <a:latin typeface="Arial"/>
              </a:rPr>
              <a:t>The Population and the Sample</a:t>
            </a: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e found a confidence interval for a mean, we could imagine a single, true underlying value for the me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e tested whether two means or two proportions were equal, we imagined a true underlying dif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it mean to do inference for regress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045C2F77-5220-4370-A741-EBD54EE4C296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85f"/>
                </a:solidFill>
                <a:latin typeface="Arial"/>
              </a:rPr>
              <a:t>The Population and the Sample (cont.)</a:t>
            </a: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44680" y="152388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know better than to think that even if we knew every population value, the data would line up perfectly on a straight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ur sample, there’s a whole distribu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%body f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men with 38-inch wais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27-02a"/>
          <p:cNvPicPr/>
          <p:nvPr/>
        </p:nvPicPr>
        <p:blipFill>
          <a:blip r:embed="rId1"/>
          <a:stretch/>
        </p:blipFill>
        <p:spPr>
          <a:xfrm>
            <a:off x="2666880" y="3732120"/>
            <a:ext cx="3757680" cy="282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0740C944-7CB4-4A1B-964E-C638FD164AB5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85f"/>
                </a:solidFill>
                <a:latin typeface="Arial"/>
              </a:rPr>
              <a:t>The Population and the Sample (cont.)</a:t>
            </a: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true at each waist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ould depict the distribu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%body f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differe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a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zes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27-03a"/>
          <p:cNvPicPr/>
          <p:nvPr/>
        </p:nvPicPr>
        <p:blipFill>
          <a:blip r:embed="rId1"/>
          <a:stretch/>
        </p:blipFill>
        <p:spPr>
          <a:xfrm>
            <a:off x="1371600" y="3276720"/>
            <a:ext cx="6353280" cy="304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AB63F629-D351-412A-A9AD-4EDD103C28C8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85f"/>
                </a:solidFill>
                <a:latin typeface="Arial"/>
              </a:rPr>
              <a:t>The Population and the Sample (cont.)</a:t>
            </a: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del assumes that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a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distribution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%body f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eac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ai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fall along the line even though the individuals are scattered around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del is not a perfect description of how the variables are associated, but it may be usef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had all the values in the population, we could find the slope and intercept of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dealized regression 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licitly by using least squa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9:46:41Z</dcterms:created>
  <dc:creator>Addison Wesley</dc:creator>
  <dc:description/>
  <dc:language>en-US</dc:language>
  <cp:lastModifiedBy>PA Department of Education Classrooms for the Future</cp:lastModifiedBy>
  <cp:lastPrinted>2001-11-04T00:51:13Z</cp:lastPrinted>
  <dcterms:modified xsi:type="dcterms:W3CDTF">2012-04-29T19:24:55Z</dcterms:modified>
  <cp:revision>48</cp:revision>
  <dc:subject/>
  <dc:title>No Slide Title</dc:title>
</cp:coreProperties>
</file>